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wmf" ContentType="image/x-wmf"/>
  <Override PartName="/ppt/media/image25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1.wmf" ContentType="image/x-wmf"/>
  <Override PartName="/ppt/media/image8.png" ContentType="image/png"/>
  <Override PartName="/ppt/media/image14.jpeg" ContentType="image/jpeg"/>
  <Override PartName="/ppt/media/image12.wmf" ContentType="image/x-wmf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4.wmf" ContentType="image/x-wmf"/>
  <Override PartName="/ppt/media/image16.jpeg" ContentType="image/jpeg"/>
  <Override PartName="/ppt/media/image18.wmf" ContentType="image/x-wmf"/>
  <Override PartName="/ppt/media/image26.jpeg" ContentType="image/jpeg"/>
  <Override PartName="/ppt/media/image32.jpeg" ContentType="image/jpeg"/>
  <Override PartName="/ppt/media/image20.wmf" ContentType="image/x-wmf"/>
  <Override PartName="/ppt/media/image17.png" ContentType="image/png"/>
  <Override PartName="/ppt/media/image19.wmf" ContentType="image/x-wmf"/>
  <Override PartName="/ppt/media/image2.wmf" ContentType="image/x-wm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251950" cy="65516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474-1100-4063-B065-B862E952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880" y="3787560"/>
            <a:ext cx="83296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9B5-0166-46E1-B6DE-9F1F0B59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188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040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5E4-3FF1-4D87-9259-BB520275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8520" y="152892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52892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1880" y="378756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8520" y="378756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378756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3F2-C33A-479C-A4DF-3A932AEC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F44-A344-4066-9C2A-E0505AD1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877-7082-422B-A5D4-04C1431B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259-F251-4B6C-88A9-0AA68F84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D872-785A-49B8-AFCB-E2826780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1880" y="261720"/>
            <a:ext cx="832968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109-EA86-4DE9-8307-52C45C87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188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FCFE-9B27-48F5-9B5C-15336308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040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037-69B6-400F-9D1E-5E793DBB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880" y="3787560"/>
            <a:ext cx="83296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167-CF73-4FA9-BB58-7D61EC26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188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D061-D5C4-4957-992A-1721F2560D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2240" y="5967360"/>
            <a:ext cx="29289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6835-67F7-4C90-B06C-C7FAA4D74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Útügyi Napok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Győr, 2014. 09. 24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HOSSZÚ ÉLETTARTAMÚNAK TERVEZETT MEREV ÉS FÉLMEREV ÚTPÁLYASZERKEZETEKKEL ÉPÜLT HAZAI PRÓBASZAKASZOK TARTÓSSÁGI TAPASZTALA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Dr. Karsainé Lukács Kata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TI Nonprofit K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Út- és Hídügyi Közp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1857240" y="455760"/>
            <a:ext cx="64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ÍSÉRLETI SZAKASZ -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83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39640" y="2038320"/>
            <a:ext cx="1100160" cy="1311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85920" y="1594440"/>
            <a:ext cx="28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on pályaszerkezet (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254808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619280" y="2081160"/>
            <a:ext cx="2543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20 mm hézagolt betonburko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617400" y="4078440"/>
            <a:ext cx="1079640" cy="1272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5" name="Rectangle 9"/>
          <p:cNvSpPr/>
          <p:nvPr/>
        </p:nvSpPr>
        <p:spPr>
          <a:xfrm>
            <a:off x="485280" y="3438720"/>
            <a:ext cx="26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ytonosan vasalt be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ályaszerkezet (CR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773360" y="3973320"/>
            <a:ext cx="314316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7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olytonosan vasalt betonburko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5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0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4"/>
          <a:stretch/>
        </p:blipFill>
        <p:spPr>
          <a:xfrm>
            <a:off x="4703760" y="2038320"/>
            <a:ext cx="1098720" cy="1384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4647960" y="1370160"/>
            <a:ext cx="27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on pályaszerkezet (CP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ott felületképzéss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0" y="259560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783400" y="2154240"/>
            <a:ext cx="2543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20 mm hézagolt betonburko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"/>
          <p:cNvPicPr/>
          <p:nvPr/>
        </p:nvPicPr>
        <p:blipFill>
          <a:blip r:embed="rId5"/>
          <a:stretch/>
        </p:blipFill>
        <p:spPr>
          <a:xfrm>
            <a:off x="4735440" y="4005360"/>
            <a:ext cx="1128960" cy="14922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6"/>
          <p:cNvSpPr/>
          <p:nvPr/>
        </p:nvSpPr>
        <p:spPr>
          <a:xfrm>
            <a:off x="4667760" y="3574080"/>
            <a:ext cx="434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zfalt pályaszerkezet (referencia burkol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5871600" y="4044600"/>
            <a:ext cx="31204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30 mm zúzalékvázas masztixaszf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80 mm nagymodulusú aszfalt kötő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90 mm nagymodulusú aszfalt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50 mm 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00 mm 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JESZKEDÉSI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HÉZAG 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FOLYTONOS VASALÁSÚ ÉS A HÉZAGOLT BETONBURKOLATOK CSATLAKOZÁSÁ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930320" y="2244600"/>
            <a:ext cx="5534280" cy="350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93720" y="593640"/>
            <a:ext cx="78660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OLYTONOS VASALÁSÚ BETONBURKOLATÚ SZAKASZ VÉGÉNEK LEHORGONYZÓ SZERKEZ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87440" y="1968480"/>
            <a:ext cx="647856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857240" y="2725560"/>
            <a:ext cx="5821560" cy="232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399960" y="1074600"/>
          <a:ext cx="8597880" cy="490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1074600"/>
                    <a:ext cx="859788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326880" y="800280"/>
          <a:ext cx="8622000" cy="520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880" y="800280"/>
                    <a:ext cx="8622000" cy="52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399960" y="525600"/>
          <a:ext cx="8597880" cy="5295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525600"/>
                    <a:ext cx="8597880" cy="52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1128600" y="318960"/>
            <a:ext cx="75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ÓBASZAKASZ - 44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2"/>
          <a:stretch/>
        </p:blipFill>
        <p:spPr>
          <a:xfrm>
            <a:off x="2658960" y="868320"/>
            <a:ext cx="3718080" cy="2201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0" name="Picture 5" descr="2"/>
          <p:cNvPicPr/>
          <p:nvPr/>
        </p:nvPicPr>
        <p:blipFill>
          <a:blip r:embed="rId3"/>
          <a:stretch/>
        </p:blipFill>
        <p:spPr>
          <a:xfrm>
            <a:off x="692280" y="3208320"/>
            <a:ext cx="3679560" cy="250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1" name="Picture 6" descr="2"/>
          <p:cNvPicPr/>
          <p:nvPr/>
        </p:nvPicPr>
        <p:blipFill>
          <a:blip r:embed="rId4"/>
          <a:stretch/>
        </p:blipFill>
        <p:spPr>
          <a:xfrm>
            <a:off x="4554360" y="3230640"/>
            <a:ext cx="3934080" cy="250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2"/>
          <a:stretch/>
        </p:blipFill>
        <p:spPr>
          <a:xfrm>
            <a:off x="1420920" y="1006560"/>
            <a:ext cx="7049880" cy="4403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765000" y="387360"/>
            <a:ext cx="78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44. ÚTI PRÓBASZAKASZ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1"/>
          <p:cNvGraphicFramePr/>
          <p:nvPr/>
        </p:nvGraphicFramePr>
        <p:xfrm>
          <a:off x="692280" y="800280"/>
          <a:ext cx="8103960" cy="4471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2280" y="800280"/>
                    <a:ext cx="810396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"/>
          <p:cNvGraphicFramePr/>
          <p:nvPr/>
        </p:nvGraphicFramePr>
        <p:xfrm>
          <a:off x="181080" y="525600"/>
          <a:ext cx="8804160" cy="522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525600"/>
                    <a:ext cx="880416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ARTALOMJEGYZÉ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újraépítés tényező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őnyök és hátrán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omlástípusok és állapotparamé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7538. út kísérleti szakaszainak jellemző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44. úti pályaszerkezet változ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Állapot-megfigyelés eredmén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Összefogla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1"/>
          <p:cNvGraphicFramePr/>
          <p:nvPr/>
        </p:nvGraphicFramePr>
        <p:xfrm>
          <a:off x="326880" y="731880"/>
          <a:ext cx="8467920" cy="536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880" y="731880"/>
                    <a:ext cx="846792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32BE-1F02-4438-9AD2-670847AED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4480" y="593640"/>
            <a:ext cx="83278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ÖNTÉS ALAP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93640" y="1747440"/>
            <a:ext cx="8197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letciklus alatti költségelemzé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építési, fenntartási, üzemeltetési, úthasznála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örnyeze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ármű dinami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galombiztonsági hatások vizsgál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ale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Betonútépítés_2"/>
          <p:cNvPicPr/>
          <p:nvPr/>
        </p:nvPicPr>
        <p:blipFill>
          <a:blip r:embed="rId2"/>
          <a:stretch/>
        </p:blipFill>
        <p:spPr>
          <a:xfrm>
            <a:off x="0" y="1693800"/>
            <a:ext cx="4479840" cy="399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kepeslapscanp1"/>
          <p:cNvPicPr/>
          <p:nvPr/>
        </p:nvPicPr>
        <p:blipFill>
          <a:blip r:embed="rId3"/>
          <a:stretch/>
        </p:blipFill>
        <p:spPr>
          <a:xfrm>
            <a:off x="4479840" y="1693800"/>
            <a:ext cx="4773600" cy="39639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712880" y="662040"/>
            <a:ext cx="56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MÚ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427720" y="6087960"/>
            <a:ext cx="357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2149560" y="525600"/>
            <a:ext cx="6288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Photograph 2"/>
          <p:cNvPicPr/>
          <p:nvPr/>
        </p:nvPicPr>
        <p:blipFill>
          <a:blip r:embed="rId2"/>
          <a:stretch/>
        </p:blipFill>
        <p:spPr>
          <a:xfrm>
            <a:off x="0" y="1555920"/>
            <a:ext cx="6146640" cy="4265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6157800" y="1555920"/>
            <a:ext cx="3095640" cy="44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KEVERÉKTE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C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M II/B-S 42,5N va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M II/A-S 32,5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Adalékanyag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zalt/andezit, Kf-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H 0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Z 2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NZ4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NZ 11/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NZ 22/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Adalékszerek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éplékenyítő és légpórusképz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82800" y="593640"/>
            <a:ext cx="67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J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157800" y="5891040"/>
            <a:ext cx="41547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Photograph 6"/>
          <p:cNvPicPr/>
          <p:nvPr/>
        </p:nvPicPr>
        <p:blipFill>
          <a:blip r:embed="rId2"/>
          <a:stretch/>
        </p:blipFill>
        <p:spPr>
          <a:xfrm>
            <a:off x="0" y="2793960"/>
            <a:ext cx="3241800" cy="3002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M6 csp C ág 1"/>
          <p:cNvPicPr/>
          <p:nvPr/>
        </p:nvPicPr>
        <p:blipFill>
          <a:blip r:embed="rId3"/>
          <a:stretch/>
        </p:blipFill>
        <p:spPr>
          <a:xfrm>
            <a:off x="3095640" y="2793960"/>
            <a:ext cx="3714840" cy="2992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Photograph 3"/>
          <p:cNvPicPr/>
          <p:nvPr/>
        </p:nvPicPr>
        <p:blipFill>
          <a:blip r:embed="rId4"/>
          <a:stretch/>
        </p:blipFill>
        <p:spPr>
          <a:xfrm>
            <a:off x="6521400" y="2793960"/>
            <a:ext cx="2732040" cy="3029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Photograph 3"/>
          <p:cNvPicPr/>
          <p:nvPr/>
        </p:nvPicPr>
        <p:blipFill>
          <a:blip r:embed="rId5"/>
          <a:stretch/>
        </p:blipFill>
        <p:spPr>
          <a:xfrm>
            <a:off x="1420920" y="0"/>
            <a:ext cx="2550960" cy="281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SCI0007"/>
          <p:cNvPicPr/>
          <p:nvPr/>
        </p:nvPicPr>
        <p:blipFill>
          <a:blip r:embed="rId6"/>
          <a:stretch/>
        </p:blipFill>
        <p:spPr>
          <a:xfrm>
            <a:off x="3971880" y="0"/>
            <a:ext cx="3278160" cy="2793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Photografh 1"/>
          <p:cNvPicPr/>
          <p:nvPr/>
        </p:nvPicPr>
        <p:blipFill>
          <a:blip r:embed="rId7"/>
          <a:stretch/>
        </p:blipFill>
        <p:spPr>
          <a:xfrm>
            <a:off x="6521400" y="0"/>
            <a:ext cx="2732040" cy="2793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5719680" y="6097680"/>
            <a:ext cx="3279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229440" y="6156360"/>
            <a:ext cx="2477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DSCF0458"/>
          <p:cNvPicPr/>
          <p:nvPr/>
        </p:nvPicPr>
        <p:blipFill>
          <a:blip r:embed="rId2"/>
          <a:stretch/>
        </p:blipFill>
        <p:spPr>
          <a:xfrm>
            <a:off x="-6323040" y="-4478400"/>
            <a:ext cx="3641760" cy="2579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DSCF0458"/>
          <p:cNvPicPr/>
          <p:nvPr/>
        </p:nvPicPr>
        <p:blipFill>
          <a:blip r:embed="rId3"/>
          <a:stretch/>
        </p:blipFill>
        <p:spPr>
          <a:xfrm>
            <a:off x="-6303960" y="-4498920"/>
            <a:ext cx="4370400" cy="3093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DSCI0018"/>
          <p:cNvPicPr/>
          <p:nvPr/>
        </p:nvPicPr>
        <p:blipFill>
          <a:blip r:embed="rId4"/>
          <a:stretch/>
        </p:blipFill>
        <p:spPr>
          <a:xfrm>
            <a:off x="0" y="2657520"/>
            <a:ext cx="4664160" cy="314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SCF0458"/>
          <p:cNvPicPr/>
          <p:nvPr/>
        </p:nvPicPr>
        <p:blipFill>
          <a:blip r:embed="rId5"/>
          <a:stretch/>
        </p:blipFill>
        <p:spPr>
          <a:xfrm>
            <a:off x="4554360" y="2657520"/>
            <a:ext cx="4699080" cy="3093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DSCI0008"/>
          <p:cNvPicPr/>
          <p:nvPr/>
        </p:nvPicPr>
        <p:blipFill>
          <a:blip r:embed="rId6"/>
          <a:stretch/>
        </p:blipFill>
        <p:spPr>
          <a:xfrm>
            <a:off x="1857240" y="0"/>
            <a:ext cx="6485040" cy="2657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6229440" y="6097680"/>
            <a:ext cx="302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1494000" y="455760"/>
            <a:ext cx="7759440" cy="68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ÖSSZEFOGLA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mú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lmúlt 10 évben megtörtént a technológia korszerűsítése és az alapvető szabályozások kidolgozá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abályozások korszerűsítése az egyes szakaszok építésével, azok tapasztalatainak figyelembevételével párhuzamosan zajl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betonburkolat az aszfaltburkolat valós alternatívája lett mind műszakilag, mind gazdasági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jöv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chnológia továbbfejlesz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urópai fejlődés nyomonköveté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Új technológiák beveze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lévő burkolatok monitoringjának beveze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apasztalatgyűjtés a jövőbeli projektek és a működtetés/fenntartás számá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chnológia be nem tartásából eredő hibák kiküszöbö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347840" y="224460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ÖSZÖNÖM MEGTISZTELŐ FIGYELMŰK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8C11-0BA3-4D45-832F-54E861A52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755640"/>
            <a:ext cx="786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TONBURKOLATÚ UTAK HOSSZA MAGYARORSZÁ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7880" y="5847840"/>
            <a:ext cx="7574040" cy="3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Boromisza T., Dr. Liptay A.: Betonburkolatok várható élettart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Object 4"/>
          <p:cNvGraphicFramePr/>
          <p:nvPr/>
        </p:nvGraphicFramePr>
        <p:xfrm>
          <a:off x="700200" y="1674720"/>
          <a:ext cx="792612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200" y="1674720"/>
                    <a:ext cx="7926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D02F-A8A0-457F-9A62-439EF1A49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1880" y="899640"/>
            <a:ext cx="8329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RAÉPÍTÉST ELŐSEGÍTŐ TÉNYEZŐ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01640" y="2268360"/>
            <a:ext cx="6863040" cy="34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lmelege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gy és nehéz forgalom növekedé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zfaltburkolatok nyomvályúsod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Úthasználói elégedetlen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4553-AFEB-40C1-B0C9-0C53AEEC1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1880" y="468360"/>
            <a:ext cx="832968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ŐNYÖK ÉS HÁTRÁN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520" y="1528560"/>
            <a:ext cx="40878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1712880" y="1211400"/>
          <a:ext cx="6575400" cy="4941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2880" y="1211400"/>
                    <a:ext cx="65754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1BA0-D1A4-4086-BAA0-0D1D320A7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1880" y="612360"/>
            <a:ext cx="8329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YORSFORGALMI  ÚTHÁLÓZATOK BURKOLATTÍPUS  SZERINTI MEGOSZ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-326880" y="1919160"/>
          <a:ext cx="9097920" cy="463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6880" y="1919160"/>
                    <a:ext cx="90979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ADAE-D670-458B-9832-87A52D2C6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1880" y="684000"/>
            <a:ext cx="83296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RAKEZDÉ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LÉPÉS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5640" y="2196720"/>
            <a:ext cx="734868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ZTÉRIUM – UKIG – K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ÍSÉRLETI és PRÓBA SZAKASZ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287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38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287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ÍSÉRLETI SZAKASZOK ELŐKÉSZ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ísérleti szakaszok előkészítésekor a KTI figyelembe vette a legújabb külföldi tapasztalato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erve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apanyag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everékterv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ép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vitelezési módok tekinteté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feladat annak megállapítása volt, hogy ezek közül melyek felelnek meg leginkább a magyarországi éghajlati és közlekedési viszonyokn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ROMLÁSTÍPUSOK – ÁLLAPOT-PARAMÉ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1880" y="1528920"/>
          <a:ext cx="8329320" cy="4692600"/>
        </p:xfrm>
        <a:graphic>
          <a:graphicData uri="http://schemas.openxmlformats.org/drawingml/2006/table">
            <a:tbl>
              <a:tblPr/>
              <a:tblGrid>
                <a:gridCol w="2082240"/>
                <a:gridCol w="2082240"/>
                <a:gridCol w="2082600"/>
                <a:gridCol w="2082240"/>
              </a:tblGrid>
              <a:tr h="384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lási form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llemzett állap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méte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kolattípu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zfal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llámosodá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i egyenletessé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áblalépcső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i egyenletessé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yomvályú képződé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esztprofil mér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íkosodá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úszásellenállá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álló zúzalékszemek elkopá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kroérdessé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i hibák képződ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állapo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ilárdságveszté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herbírásméré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kolatszél letöredez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kolatszélesség mér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0:20:54Z</dcterms:created>
  <dc:creator/>
  <dc:description/>
  <dc:language>en-US</dc:language>
  <cp:lastModifiedBy>strasser</cp:lastModifiedBy>
  <dcterms:modified xsi:type="dcterms:W3CDTF">2014-09-22T07:11:50Z</dcterms:modified>
  <cp:revision>167</cp:revision>
  <dc:subject/>
  <dc:title>1. dia</dc:title>
</cp:coreProperties>
</file>